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08B-96AF-4359-9E51-0AA1E234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EB4-A9D2-4E59-9435-A4F77186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1439F-C108-4E80-8D59-2682F768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C4062-C7D5-4EE9-83A0-22ACD606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62B61-9C5C-4048-B169-C2AF1F21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DB2B2-9D45-49AE-B2C6-0D87A7DD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B7690-F453-428E-97FE-5CDCE14B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9886C-64E4-434F-A195-8165C3D2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40D94-CA09-44C2-AEAD-A3AA3CC2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15E6F-F85A-471D-99BD-00B6BC9A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D384C-91F6-4ADA-94E4-706F44EF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25961-1626-4FD0-8746-4ECDCA90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4FE-1ABD-4CCE-8E3E-B885282A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CAA6D-8319-4696-BF17-E42D36AE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3665A-C31E-4707-95A9-4E7A66CE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510A9-CD27-48FC-AB1C-8B9A896F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2B460-46D5-4F29-8ECE-F6A1914C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2D13B-C50F-4995-A6A0-D5C61B89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C1811-58FD-4DB2-B632-76F30E0B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6B753-B1C9-4C6D-A863-179EA53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FF5B2-6CE1-49A2-81FE-DC79C6B0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5F2D9-48DB-4935-BB71-723C2022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0D8C2-2C9E-4997-91D9-6B22FB89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0B1-D490-4397-8C78-8D5118D0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69DF1-306E-4AA9-9A39-B9704E39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43F39-BF34-4F8C-9082-622B40FF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0B04A-D092-4456-938E-B1632561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7781E-7F2F-4C0C-9EBB-461840A7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C6BBD-FC9E-4D34-B0CF-3392E4DB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9918A-BB1F-48DE-A2AE-6EAED7CE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85671-E795-48A4-B938-DE28D86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08341-B1C3-4765-9895-0C1AD834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AB09E-A5F3-448F-9651-54B69C8A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23C9A-2C85-4816-8D01-2C2615FD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76DB-5F5F-41CE-8201-7A2BBF04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D3963-04D6-429A-8D7D-E129BFBD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CBDC0-6D65-4D20-9F1C-BD3F822C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0ED78-31ED-410C-9691-E988E69B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D2D41-231F-4B02-8200-A2718B42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D007A-2A13-4095-B1C8-827D8FD6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F73DA-E389-4BF8-9730-C0CB90B0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93605-AA82-42C0-99ED-A1EF9B7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1E80B-EE6F-4889-817B-F6F0219C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92DC9-A5A9-4C39-9B1C-0A622747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875F1-B7BA-4C54-A38A-577E9A8C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D829-8AFE-443D-A9BC-B6B03D48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C89D9-43B6-40EA-BF73-0788C05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CB3BE-401F-446E-8EBA-047FD16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7CB7E-00A4-4AED-AD2C-155C647A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D5202-2538-4F42-8DCC-8C1F4CD6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D8A92-677D-4940-8C72-3B7D4FD5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DF3D-18F4-47F3-B9AA-4C311409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64E9-C756-48CA-A0FA-47D357BB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935F-38D8-493B-A019-7D74F4AC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6D08-EBBA-45C6-8DD8-6FD4035E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91E0-223D-4FDA-94F3-808A0E90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D05-BBA7-467B-8F20-ADE05DF7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7D74-0D4D-4191-8B75-B30CCB22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BA53-983F-46F2-8311-5BDF9310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545B-92ED-4E3E-BCCE-8502702A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E88C-7A12-43F2-88E5-23F54059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C746-E2BD-4D44-9D91-0A6573A3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13D8-2D2D-423B-B7DE-BEC5D687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972D-AE69-4E35-8699-A23F2BEB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0662-3B1B-4D22-939F-93CB0FAE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6AB0-3787-459F-A350-913ABBD3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1D30-1AAC-49A5-A7FA-502C5223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194-50A8-4CB7-AD40-FC3F1FC2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EA73-BD3F-4485-9BE6-A6411A3B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546B-B5B5-4B5C-AE9F-6072D8B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0863-4ED8-4DAB-A54E-47D7AFC2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418A-AD26-4514-8BA7-10DC151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11F8-A3BA-41B3-BEBE-36C279D7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62AD-9606-46B0-9510-51F5C406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ABF3-FD57-4023-BACF-33DB8126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C0CED-89E6-4B92-9363-07A6310C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F1A9-F47B-431A-B727-3F7D10B8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D6642-1CAB-4ACA-A2FD-7EE4B0D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1B9-6AAE-4FC6-B75F-5FE10D30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3F29-83E7-4366-9FFE-8325B8A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09E8-4D12-4D3C-8DA5-EDA5D213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1B99-CC80-418A-B59A-03D9CBF5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4365-8344-40A1-BF35-09C11EFC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8C7DD-F2D9-474C-9243-7CB4011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9299-1F87-42C9-957A-0544204A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7691-232F-41BD-B163-9D9C02D9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D667-520D-4B3F-B5C4-53D44721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790B-E3B0-41FB-98AA-41F9ABAD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B3B84-D3D8-4561-AB53-F903C915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43F-9533-45E7-B98A-C99FB759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6C93-5204-4ACA-B61E-7674D4D2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6CB2-557A-4539-9AFD-CD5F1728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DB68C-2BE2-4BA1-80EF-87459220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B9868-5B4B-4BC2-A9DB-6DAF1E81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29BB-F444-43C1-A4BE-4488BFAF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D038-6C66-470D-BD6A-9829A9B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CEF2E-D5BD-4DB5-B55E-ECC6788A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06130-4E25-4558-9725-F0A2EB0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06A8-AB86-4535-9677-DC58F133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E132-97DD-4683-B4A7-9173C2F3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540-0DBD-417E-B70B-C9129F21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9C3C4-3A8F-4D00-9708-B092A637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755E-3724-4ECA-BD4B-216006D0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459C1-5868-4CD6-BB50-7F3F1B56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46F79-9AEC-4AC2-9C19-2715DC72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E0333-97D7-4647-A5A2-F824D2B5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CE9DC-71F4-4910-A3F0-735CC95B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7620C-7240-4EC7-B71D-0F4F1BF7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70B6F-1556-46E8-9158-A830D56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807FA-850E-450E-A053-11117E5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5246-390C-4030-8BBC-A0494FAA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C12-411E-4949-807C-BD5EF067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56AD-CB37-4819-B462-94EDD918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E14C8-1E39-4D0A-A50F-D353470B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36BDD-4518-483F-8C2D-165A36A9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C815F-BED4-4D0F-8AC7-97AE51E2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0EC32-0008-4EF6-92AF-9535E376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C6DBC-751A-404F-A910-81B28DD8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B2386-67C0-4DC1-ACBA-D8CC6AE9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5BE59-7307-4FD7-8DDF-A34DB19E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B1605-5221-4E24-8CC4-947E3F2B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57F9-F51A-40AD-9EF8-3A2E56B9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AA4-1228-49F3-B17D-471468DF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424A8-2799-4858-AFF6-A4ECAD1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639A5-D553-47A1-A9F1-E27C961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C4A1C-4CBA-4B0D-8B12-C537677E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43F9-A7CF-4691-91C7-0B78F741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A8EE0-9FEF-4464-A47D-18AD44EA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2BC8B-D327-45E5-B044-0B50EE82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DF651-2519-4A3F-828B-F4F255E7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F5FBF-69B1-4F5B-A950-2F4CA422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E347B-DB2B-482B-8C44-54B2B180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0060-A9E3-4FC8-A3AC-3F1522F4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011-1471-4589-8487-0A56F1EE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A05B8-8563-4AC4-8791-59313EB2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661AF-0256-4D0D-BE06-A4006F1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2CE08-C2F4-4FA1-AF4F-C033CC00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D8EAA-99A6-4EE1-91B8-7D83D42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D81E2-ED40-4C09-BC80-FAEAA306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434FB-BE1C-42F9-85E7-7DB60C7C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7067B-DA4D-402C-A64A-4E9A822F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D667B-73AD-4126-A9B6-E831CB08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0980F-3281-41D9-8D4E-B71246D7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B3754-1DB8-4AB5-B4D7-AFE94887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2A6D-5745-4BFE-B67A-8FE4E21C2A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CF97-843E-464B-9C1C-217BD07B7A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76AC-6E3F-4A62-8461-080A1803AB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4D46-369E-44AF-9E8E-704A67A6F8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3F99-860C-4AF1-919A-7E8A78C817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A4D7-F61A-4D03-8F11-CDD5DCE796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C1F1-27D7-4AE3-83BF-14BC4BD5C5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50A7-E4A6-4B0E-ADC1-F0FE400003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CDD8-5666-4F70-9FAC-72DD79BAB7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4C00-C152-455D-918F-76D7775E1F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F503-2E3F-4833-9A06-8BFD8C25B3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DAF1-B49C-44E8-9E24-5F3FD36662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1 Kristus, ktorý za nás trp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, ktorý za nás trp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ľúbil, že sa vráti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ca náš, Vykup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de už o krátk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áve svojej príde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áve svojej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lý vesmír bude na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liatby hriechu zbav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dnú smrti mocné hradb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znie hlahol nadšený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chádza náš drahý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chádza náš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aránkovi patrí vďa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ti a slávy hoden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ľud ho s túžbou čak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deji na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už skoro, Pane, k n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už skoro, Pane, k n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06T18:58:30Z</dcterms:modified>
  <cp:revision>8</cp:revision>
  <dc:subject/>
  <dc:title>Je veľký náš Pán, on slávy je Kráľ Nech do všetkých strán  spev vrúcnych znie chvál.</dc:title>
</cp:coreProperties>
</file>